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E459-1B27-42A8-B3A9-443E456274C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299-6B27-4A5D-93E9-3FFBEC6D8B8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DA3-7B24-4A6B-B5F1-97297A6EBEF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55A1-DA65-4FE8-BF00-282662936E6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4547-CC8D-4099-B068-90AF9AD1846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B126-F966-40B0-AB0E-38EC936A1D5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3D0-8B50-4960-ACAF-895C2248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900-7D05-46A0-BFA2-3727B5C2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AD9-2605-4F56-A60D-20F8B6E0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989-73AA-49C4-85B4-ACD7A503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7A2-15FD-4371-ACB6-661B6EB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83B5-8174-4454-B81D-DDEB4286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D0E-9DF2-4069-8B51-F3485102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B1DB-2DA7-4256-A30F-503EFD7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3AE9-D719-4D84-A9F8-46F0052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868-62E0-47C3-B6B4-6BFB4738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1C6-2B90-4D96-8346-11A4418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B68-5B87-474B-BB07-0D73341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0D17-AEA0-4E65-A244-4B10FCE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0762-E044-40A0-8280-472AC03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32FE-A526-49F0-930A-91079697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00D-D7C2-46B7-84F1-8E035E02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4738-01A2-4A70-8297-ABC00FD1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117E-94EB-47A7-9FD2-1472E779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2212-0FF9-4CDA-B73C-6AD7FEB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030E-2EA0-4AC5-AD5A-23234A0C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B91F-1E80-49BE-B0D7-3863110E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2C6A-CB55-44F1-9E31-1FAB661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4CA-F53A-4CDE-BC75-44C5B6C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5A1E-9210-45C6-91D3-EE60545A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10EF-6F63-421B-AE39-D934316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5DC5-B519-4D9C-86B6-C7607383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CF15-732D-49A0-91EF-9A26A17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5139-EDFB-4DA2-94FC-DABDE987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4C4E-34A2-4F03-A9ED-9D93CA3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3206-87BF-422D-8238-A076DA26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A91-89CA-4AE8-AA7D-22A46CA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A58-D417-45A5-9BCC-A3FF363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E4F-FD06-4371-833C-44FC19E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587-7D13-49C3-8EBB-7B4A736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CB8-B7AB-4346-8D06-70F8D37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882-2D8E-4358-95F6-0B088B44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8F55-AC83-41B5-B4E0-66F29F569E96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46" b="1407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DDE-8224-49FF-A96B-779DF568D989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A35-2C06-4B28-9076-584634086AB6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 Huuska, ympäristösuunnittel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.huuska@hel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18920" y="7920"/>
            <a:ext cx="7635960" cy="27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mmenttipuheenvuoro THL avoin energiamalli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4.bp.blogspot.com/_kxPG6y8Qctk/SuB67e-Q64I/AAAAAAAANzc/lB7e6N6tvWI/s400/Wind_Middelgrunden1_000671.jpg"/>
          <p:cNvPicPr/>
          <p:nvPr/>
        </p:nvPicPr>
        <p:blipFill>
          <a:blip r:embed="rId1"/>
          <a:stretch/>
        </p:blipFill>
        <p:spPr>
          <a:xfrm>
            <a:off x="1187280" y="1476360"/>
            <a:ext cx="619308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uomioita avoimesta mallis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nianhimoinen kokei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yrkii edistämään avointa arviointia ja avoimempaa päätöksentekokäytäntö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oisi luoda pohjan alustalle, joka mahdollistaa eri tahojen asiantuntemuksen käytö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uo keskusteluun, voisiko tällaisella periaatteella tehdä myös tärkeitä selvityksiä avoimesti, ja mitä hyötyjä ja haittoja siitä seuraisi (suljettu päätöksenteko vs. avo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uonut keskusteluun uusia energiantuotantovaihtoeht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oletukset ja laskentaperusteet mahdollista kyseenalaistaa ja kehittää vain jos ne avataan, nämä mallissa periaatteessa näkyvissä, tosin vaatii hieman tutustum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voimempi valmistelu voi periaatteessa lisätä demokratiaa ja tuoda onnistuessaan parhaaseen asiantuntemukseen perustuvia tuloksia, koska päätökset perusteltava hy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voin data, osallistava ja läpinäkyvä päätöksenteko sekä uudenlaiset digitaaliset alustat, joilla eri päätösten vaikutuksia voi tutkailla graafien ja visualisointien avulla, on sinänsä tulevaisuuden su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E0F-DB78-4080-A199-953C036041AE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Kohderyhmän huomioiminen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lli on nykyisellään oppimisympäristö, muttei kovin helppokäyttöin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oisi parhaimmillaan toimia viestintäympäristönä asioiden merkityksestä, mutta toistaiseksi visuaalisuutta ei riittävä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dellyttäisi suurta ymmärrettävyyttä ja visuaalisuutta, sekä lähtötietojen oikeellisuutta, jotta kokeilemalla näkisi suuntaviivoja erilaisista vaihtoehdoista vrt. HSY ilmastove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vallisten ihmisten energiatiedon puute suuri haaste, (esim. vaikutus lämpö- ja sähkölaskuun erityisesti kiinnostaa päästöjen ohel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nglannin kieli (laajemmat tiedot ja tulokset) rajoitte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5BFF-C50F-4C03-93C9-84D4A56D3D96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Avoimen energiamallinnuksen rajoittei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nergiamallinnus kohteena erittäin haa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ergiajärjestelmä erittäin monimutkainen mallinnettava (tehty jo pitkään Helsingissä, tulokset elävä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ykyisiä tarkkoja lähtötietoja ei pystytä käyttämään (liikesalaisuuk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nvestointien kannattavuutta ei voi laskea ilman tarkkoja lähtötie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ergian hinnat vaihtelevat vuorokauden- ja vuodenajan mu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ulevaisuuden sähkön ja polttoaineiden hinnat riippuvat paljon politiik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lli on niin hyvä kuin lähtötie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arhaiden asiantuntijoiden mukaan saaminen voi olla haastavaa, joka reunaehto -&gt; edellyttäisi laajaa osallistumista onnistuak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s ei tuota sellaisia tuloksia, jonka perusteella voisi tehdä johtopäätöksiä energiavalinnoista, voi pahimmillaan johtaa huonoihin johtopäätöksiin jos väärät lähtötied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A80D-EB82-49A1-AAE3-4E5D64EB5971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Johtopäätöksiä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ksen suurin arvo ei ole tuloksissa, vaan sen edustamassa uudessa mahdollisessa toimintatavassa -&gt; päätöksenteon suunta kohti avoimuutta, osallistavuutta ja läpinäkyvyytt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s voi parhaimmillaan lisätä keskustelua erilaista energiavaihtoehdoista, muttei juuri tuota päätöksentekoa helpottavaa tiet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HL energia-arviointi on rohkea kokeilu, jota menetelmänä ja visuaalisuudeltaan kannattaa tulevaisuudessa kehittää eteenpä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aupunki voisi tarjota helpomman aiheen, jossa avointa mallinnusta sovellettaisi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A654-6684-4624-BFE1-E9EFFB4606A7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03:13Z</dcterms:created>
  <dc:creator>Huuska Petteri</dc:creator>
  <dc:description/>
  <dc:language>en-US</dc:language>
  <cp:lastModifiedBy>Huuska Petteri</cp:lastModifiedBy>
  <dcterms:modified xsi:type="dcterms:W3CDTF">2015-09-10T20:16:01Z</dcterms:modified>
  <cp:revision>65</cp:revision>
  <dc:subject/>
  <dc:title>PKS ja Helsingin ilmastotyö sekä Helen kehitysohjel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